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DF67-3FAB-474B-B2ED-5F471059F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45D2-CB86-4886-B884-C1BDF4A30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4658-145F-4139-9BB9-F6C4C405C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EA2F-F022-42B7-B6C7-F6EB24BA6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8E94-AE2D-4F2D-9FFB-F731CF10E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9912-9A63-4CB6-BE76-66AD5153C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663B-4E30-45C7-915A-3ECCB4D1A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C3EB-5053-4A6E-82B8-ACCCD2CAE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E3CD-1C14-4F84-B9A1-E3E47D864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E9A6-DB0D-4C54-9B23-66940694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6F9E-65EF-45B2-A1CC-F9E4B8061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0FDA-56B6-453D-B069-918789748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94074-6A45-4506-A81C-837A029214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33" descr="G:\ВОО 17\с шойгу.jpg"/>
          <p:cNvPicPr/>
          <p:nvPr/>
        </p:nvPicPr>
        <p:blipFill>
          <a:blip r:embed="rId1"/>
          <a:stretch/>
        </p:blipFill>
        <p:spPr>
          <a:xfrm>
            <a:off x="189000" y="155520"/>
            <a:ext cx="8928000" cy="640872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3"/>
          <p:cNvSpPr/>
          <p:nvPr/>
        </p:nvSpPr>
        <p:spPr>
          <a:xfrm>
            <a:off x="8615520" y="185760"/>
            <a:ext cx="528480" cy="457200"/>
          </a:xfrm>
          <a:prstGeom prst="rect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9036000" cy="134136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бирая вуз Министерства обороны Российской Федерации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ля получения высшего образования, гражданин РФ  имеет широкие возможности для самореализации, достойный уровень жизни, высокий социальный статус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08000" y="1267920"/>
            <a:ext cx="9036000" cy="547380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кончив  военную образовательную организаци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фицер имее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ое денежное довольствие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есплатное вещевое обеспечение, изготовленное  из    качественных   высокотехнологических материалов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аво приобрести бесплатное жилье в собственность благодаря  военной ипотеке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 весь период военной службы  служебную квартиру 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есплатную медицинскую помощь в специализированных медицинских учреждениях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ежегодный основной отпуск от 30 до 60 суток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аво на пенсию при достижении общей продолжительности   военной службы в льготном исчислении– 20 лет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ремя обучения зачисляется в общий стаж военной службы офицер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3"/>
          <p:cNvSpPr/>
          <p:nvPr/>
        </p:nvSpPr>
        <p:spPr>
          <a:xfrm>
            <a:off x="8594640" y="-171360"/>
            <a:ext cx="74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 Ta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оугольник 4"/>
          <p:cNvSpPr/>
          <p:nvPr/>
        </p:nvSpPr>
        <p:spPr>
          <a:xfrm>
            <a:off x="8594640" y="74520"/>
            <a:ext cx="549360" cy="338400"/>
          </a:xfrm>
          <a:prstGeom prst="rect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8000" y="48960"/>
            <a:ext cx="9036000" cy="107604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2023 году абитуриентов будут принимать 42  военных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разовательных организаций,  которые  готовят военных специалистов  для  всех родов и видов Вооруженных сил РФ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08000" y="1052640"/>
            <a:ext cx="8928000" cy="568944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военных образовательных организациях высшего образования, специалистов готовят по программе высшего профессионального образования (далее ВПО) и по программе среднего профессионального образования  (далее СПО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к обучения по программе ВПО - 5 лет. Выпускники получают диплом специалиста, им присваивается первое воинское звание «лейтенант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к обучения по программе СПО - 2 года 10 месяцев. Выпускники получают диплом о среднем профессиональном образовании, им присваивается воинское звание, «прапорщик», «мичман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6"/>
          <p:cNvSpPr/>
          <p:nvPr/>
        </p:nvSpPr>
        <p:spPr>
          <a:xfrm>
            <a:off x="8496360" y="-243000"/>
            <a:ext cx="74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 Tat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оугольник 4"/>
          <p:cNvSpPr/>
          <p:nvPr/>
        </p:nvSpPr>
        <p:spPr>
          <a:xfrm>
            <a:off x="8675640" y="49320"/>
            <a:ext cx="468360" cy="407880"/>
          </a:xfrm>
          <a:prstGeom prst="rect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енные образовательные организации  высшего профессионального образования  Министерства обороны  РФ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34920" y="811080"/>
          <a:ext cx="8894880" cy="5967720"/>
        </p:xfrm>
        <a:graphic>
          <a:graphicData uri="http://schemas.openxmlformats.org/drawingml/2006/table">
            <a:tbl>
              <a:tblPr/>
              <a:tblGrid>
                <a:gridCol w="8894880"/>
              </a:tblGrid>
              <a:tr h="509760"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Московское высшее военное командное училище (военный институт) общевойсково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 окончании: командир  мотострелкового взвода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614160"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Казанское высшее военное танковое училище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 окончании: командир  танкового  взвода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881280"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Новосибирское высшее военное командное училище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 окончании: командир мотострелкового взв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командир взвода войсковой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азведки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1546200"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Дальневосточное высшее общевойсковое командное училище (г. Благовещенск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 окончании: командир мотострелкового взвод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                           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командир взвода морской пехоты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язанское  гвардейское  высшее воздушно-десантное командное училище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 окончании: командир взвода воздушно-десантных войс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командир взвода войсковой разведки Воздушно-десантных войск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2019240"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Тюменское высшее военно-инженерное командное училище (военный институт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 окончании: инженер по эксплуатации инженерных электротехнических средст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                           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инженер по эксплуатации  инженерно-позиционных подразделений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Михайловская военная артиллерийская  академия (г. Санкт-Петербург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 окончании: командир взвода артиллер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                           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командир взвода артиллерийской разведки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                           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командир взвода артиллерии воздушно-десантных войск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397080"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</a:tbl>
          </a:graphicData>
        </a:graphic>
      </p:graphicFrame>
      <p:sp>
        <p:nvSpPr>
          <p:cNvPr id="88" name="Прямоугольник 5"/>
          <p:cNvSpPr/>
          <p:nvPr/>
        </p:nvSpPr>
        <p:spPr>
          <a:xfrm>
            <a:off x="8675640" y="49320"/>
            <a:ext cx="468360" cy="407880"/>
          </a:xfrm>
          <a:prstGeom prst="rect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енные образовательные организаций  высшего профессионального образования  Сухопутных войск МО РФ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4920" y="-104760"/>
          <a:ext cx="9074160" cy="7012080"/>
        </p:xfrm>
        <a:graphic>
          <a:graphicData uri="http://schemas.openxmlformats.org/drawingml/2006/table">
            <a:tbl>
              <a:tblPr/>
              <a:tblGrid>
                <a:gridCol w="9074160"/>
              </a:tblGrid>
              <a:tr h="250920"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6540480"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Военная </a:t>
                      </a: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адемия войсковой противовоздушной обороны ВС РФ (г. Смоленск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 окончании: инженер специальных радиотехнических систем (ПВО) воздушного пространства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Военная Академия войск радиационной, химической и биологической, защиты и инженерных войск  ( г. Кострома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 окончании: командир взвода радиационной, химической и биологической защиты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ВУНЦ ВВС </a:t>
                      </a: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Военно-Воздушная академия" ВС РФ (г. Воронеж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 окончании: инженер по эксплуатации летательных аппаратов и двигателе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инженер по эксплуатации радиотехнических систем и средств обеспечения полетов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ВУНЦ ВВС </a:t>
                      </a: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Военно-Воздушная академия" ВС РФ (филиал г . Сызрань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 окончании: инженер по летной эксплуатации авиационных комплексов (вертолетов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УНЦ ВВС "Военно-Воздушная академия" ВС РФ (филиал г . Челябинск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 окончании: инженер по эксплуатации воздушных судов и организации воздушного движения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ское высшее военное училище лётчиков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 окончании летчик различных видов военной  авиации (истребительной, фронтов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бомбардировочной, штурмовой и т.д.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 Военно-космическая академия имени А.Ф.Можайского (г. Санкт-Петербург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 окончании: инженер по проектированию,  производству  и  эксплуатации  ракет  и  ракетно космических комплексов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 Ярославское </a:t>
                      </a: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ее военное училище противовоздушной обороны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 окончании: инженер по применению и эксплуатации автоматизированных систе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пециального  назначения (радиоэлектронной борьбы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Военная Академия воздушно-космической обороны   имени Г.К. Жукова( г. Тверь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 окончании: инженер по применению и эксплуатации комплексов контроля использ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220680"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</a:tbl>
          </a:graphicData>
        </a:graphic>
      </p:graphicFrame>
      <p:sp>
        <p:nvSpPr>
          <p:cNvPr id="92" name="Прямоугольник 5"/>
          <p:cNvSpPr/>
          <p:nvPr/>
        </p:nvSpPr>
        <p:spPr>
          <a:xfrm>
            <a:off x="8459640" y="166680"/>
            <a:ext cx="505080" cy="433440"/>
          </a:xfrm>
          <a:prstGeom prst="rect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енные образовательные организаций  высшего профессионального образования  Сухопутных войск МО РФ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-101520" y="-96840"/>
          <a:ext cx="9245520" cy="7101000"/>
        </p:xfrm>
        <a:graphic>
          <a:graphicData uri="http://schemas.openxmlformats.org/drawingml/2006/table">
            <a:tbl>
              <a:tblPr/>
              <a:tblGrid>
                <a:gridCol w="9245520"/>
              </a:tblGrid>
              <a:tr h="250920"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4640040"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УНЦ ВМФ " ВМА», филиал: Военный Институт Военно-морской институт-морской корпус Петра Великого: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 окончании: инженер по применению и эксплуатация технических систем надводных кораблей и подводных лодок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УНЦ ВМФ, «ВМА», филиал: Военно-морской политехнический институт-высшее военное морское инженерное училище (г. Санкт-Петербург,  г. Пушкин):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 окончании: инженер по строительству, ремонту и поисково-спасательному обеспечению надводных кораблей и подводных лодок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УНЦ ВМФ «ВМА» , филиал: Балтийский Военно-морской институт им. адмирала Ф.Ф. Ушакова)  ( г. Калининград)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 окончании: инженер  по применению и эксплуатации артиллерийского и зенитно-ракетного вооружения надводных кораблей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хоокеанское высшее военно-морское училище (г. Владивосток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 окончании: инженер по применению и эксплуатация технических систем надводн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кораблей и подводных лодок, инженер по радиоэлектронным системам и комплексам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.Черноморское высшее военно-морское училище  ( г. Севастополь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 окончании: инженер по применению и эксплуатации береговых ракетных комплексов и                           артиллерии        инженер по технике и технологии кораблестроения и водного транспорта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 Военная академия Ракетных войск стратегического назначения (г. Балаших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. Филиал Военной академии  Ракетных войск стратегического назначения  (г. Серпухов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 окончании : специалисты по стартовым и техническим комплексам ракет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1227240"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.Военная Академия связи (г. Санкт-Петербург)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 окончании:  специалист радиосвязи специального назначения  специалист специальной спутниковой связ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пециалист автоматизированных систем обработки информации</a:t>
                      </a: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и управления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ское высшее военное училищ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пециалист по информационной безопасности автоматизированных систем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982800"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енный университет радиоэлектроники  (г. Череповец Вологодская область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 окончании: специалист по автоматизированным системам управл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                                  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пециалист по специальным радиотехническим система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</a:tbl>
          </a:graphicData>
        </a:graphic>
      </p:graphicFrame>
      <p:sp>
        <p:nvSpPr>
          <p:cNvPr id="96" name="Прямоугольник 5"/>
          <p:cNvSpPr/>
          <p:nvPr/>
        </p:nvSpPr>
        <p:spPr>
          <a:xfrm>
            <a:off x="8575560" y="63360"/>
            <a:ext cx="466920" cy="408240"/>
          </a:xfrm>
          <a:prstGeom prst="rect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0" y="-17640"/>
          <a:ext cx="9083520" cy="6978960"/>
        </p:xfrm>
        <a:graphic>
          <a:graphicData uri="http://schemas.openxmlformats.org/drawingml/2006/table">
            <a:tbl>
              <a:tblPr/>
              <a:tblGrid>
                <a:gridCol w="9083520"/>
              </a:tblGrid>
              <a:tr h="250920"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2202120"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. Военный Университет МО РФ  г. Москва,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по окончании: военные журналисты,  психологи,  дирижеры, юристы, финансисты, переводчики, лингвисты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ВУЗы военной академии материально –технического обеспечения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.Военная Академия материально-технического обеспечения (г. Санкт-Петербург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. Военная академия материально технического обеспечения ( филиал г. Санкт-Петербург) Военный институт  (ЖДВ и ВОСО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.Военная академии материально технического обеспечения (филиал г. Санкт-Петербург) ВИ (инженерно-технически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4275000"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.Военная академия материально технического обеспечения (филиал г. Вольск, Саратовская обл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.Военная Академия материально технического обеспечения(филиал г. Пенз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.Военная Академия материально технического обеспечения (филиал г. Омск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 окончании: специалисты по тыловому обеспечению,</a:t>
                      </a: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автотехническому обеспечению войск, применению автомобильных подразделений и частей, ремонту и хранению радиолокационных станций и радиотехнических средств,</a:t>
                      </a: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троительству и эксплуатации фортификационных сооружений и маскировки, строительству железных дорог, путей и путевого хозяй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енно-медицинская академия  имени С.М.Кирова  (г. Санкт-Петербург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 окончании: врачи, провизоры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кт-Петербургский  военный институт физической культур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 окончании: специалисты по физической культуре и спорту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.183 Учебный центр (г. Ростов-на Дону» (по программе  среднего профессионального образования)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о окончании: техник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.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1 школа техников РВСН (г. Знаменск Астраханской обл.) (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рограмме  среднего профессионального образования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;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о окончании: техник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250920"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</a:tbl>
          </a:graphicData>
        </a:graphic>
      </p:graphicFrame>
      <p:sp>
        <p:nvSpPr>
          <p:cNvPr id="99" name="Прямоугольник 5"/>
          <p:cNvSpPr/>
          <p:nvPr/>
        </p:nvSpPr>
        <p:spPr>
          <a:xfrm>
            <a:off x="8615520" y="81000"/>
            <a:ext cx="468000" cy="323640"/>
          </a:xfrm>
          <a:prstGeom prst="rect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9061560" cy="105264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енные образовательные организации  высшего профессионального образования  федеральных органов исполнительной власти 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08000" y="1092240"/>
          <a:ext cx="8953560" cy="5505480"/>
        </p:xfrm>
        <a:graphic>
          <a:graphicData uri="http://schemas.openxmlformats.org/drawingml/2006/table">
            <a:tbl>
              <a:tblPr/>
              <a:tblGrid>
                <a:gridCol w="8953560"/>
              </a:tblGrid>
              <a:tr h="39384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оенные институты  Федеральной службы войск национальной гвардии РФ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80316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.Санкт-Петербургский военный институт ФСВНГ  РФ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окончании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пециалист в области правового обеспечения национальной безопас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пециалист в области психологии служебной деяте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80316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. Саратовский военный институт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СВНГ  РФ   по окончании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пециалист в области правового обеспечения национальной безопас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77796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. Пермский военный институт ФСВНГ  РФ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окончании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пециалист по радиотехническим системам и комплексам охранного мониторинга;                                                                                               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105732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. Новосибирский военный институт ФСВНГ  РФ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окончании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пециалист в области правового обеспечения национальной безопасности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пециалист по переводам и переводоведению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8665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стерство РФ  по делам гражданской обороны, чрезвычайным ситуациям и ликвидации последствий стихийных бедств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803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.Академия гражданской защиты МЧС по окончании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пециалист по применению подразделений воинских спасательных формирований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пециалист в области техносферной безопасност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</a:tbl>
          </a:graphicData>
        </a:graphic>
      </p:graphicFrame>
      <p:sp>
        <p:nvSpPr>
          <p:cNvPr id="103" name="Прямоугольник 4"/>
          <p:cNvSpPr/>
          <p:nvPr/>
        </p:nvSpPr>
        <p:spPr>
          <a:xfrm>
            <a:off x="8675640" y="49320"/>
            <a:ext cx="468360" cy="407880"/>
          </a:xfrm>
          <a:prstGeom prst="rect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9061560" cy="62064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уществляют прием граждан женского пол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енные образовательные организации Министерства Обороны  РФ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9320" y="676440"/>
          <a:ext cx="9094680" cy="6181560"/>
        </p:xfrm>
        <a:graphic>
          <a:graphicData uri="http://schemas.openxmlformats.org/drawingml/2006/table">
            <a:tbl>
              <a:tblPr/>
              <a:tblGrid>
                <a:gridCol w="9094680"/>
              </a:tblGrid>
              <a:tr h="618156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Военная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адемия войск радиационной, химической и биологической защиты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инженерных войск (г. Кострома)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пец. « Технологии веществ и материалов в вооружении и военной технике»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Филиал ВУНЦ ВМФ « Военно-морская академия»(военно-морской политехнический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г. Санкт –Петербург. г. Пушкин)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ru-RU" sz="1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пец. « Применение  и эксплуатация автоматизированных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истем специального назначения»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Филиал ВУНЦ ВМФ « Военно-морская академия» филиал  (г. Калининград),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пец. « Инфокоммуникационные  технологии и системы специальной связи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Краснодарское высшее военное авиационное училище лётчиков (г. Краснодар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,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пец. « Летная эксплуатация и применение авиационных комплексов»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Военная академия воздушно-космической обороны  (г. Тве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ь),</a:t>
                      </a:r>
                      <a:r>
                        <a:rPr b="0" lang="ru-RU" sz="1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пец. Применение и эксплуатация вычислительных средств АСУ ПВО;  Математическое, программное и информационное обеспечение функционирования комплексов АСУ ПВО; Применение и эксплуатация комплексов средств автоматизации контроля использования воздушного пространства</a:t>
                      </a: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Военная академия ракетных войск стратегического назначения (г. Балашиха),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пец. « Применение  и эксплуатация автоматизированных систем специально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азначения»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Военная академия связи (г. Санкт-Петербург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,</a:t>
                      </a:r>
                      <a:r>
                        <a:rPr b="0" lang="ru-RU" sz="1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пец. « Применение  и эксплуатац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втоматизированных систем специального назначения»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Военный Университет МО РФ  (г. Москва),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пец. « Перевод и переводоведение»,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ru-RU" sz="1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«Психология служебной деятельности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Военно-медицинская академия (г. Санкт-Петербу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г), </a:t>
                      </a:r>
                      <a:r>
                        <a:rPr b="0" lang="ru-RU" sz="1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пец. « Лечебное дело»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</a:tbl>
          </a:graphicData>
        </a:graphic>
      </p:graphicFrame>
      <p:sp>
        <p:nvSpPr>
          <p:cNvPr id="107" name="Прямоугольник 4"/>
          <p:cNvSpPr/>
          <p:nvPr/>
        </p:nvSpPr>
        <p:spPr>
          <a:xfrm>
            <a:off x="8675640" y="49320"/>
            <a:ext cx="468360" cy="407880"/>
          </a:xfrm>
          <a:prstGeom prst="rect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9061560" cy="62064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речень индивидуальных достижений кандидатов, учитываемых при приеме на 1-й курс для обучения курсант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9320" y="676440"/>
          <a:ext cx="9094680" cy="6181560"/>
        </p:xfrm>
        <a:graphic>
          <a:graphicData uri="http://schemas.openxmlformats.org/drawingml/2006/table">
            <a:tbl>
              <a:tblPr/>
              <a:tblGrid>
                <a:gridCol w="9094680"/>
              </a:tblGrid>
              <a:tr h="618156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Наличие статуса чемпиона и призера Олимпийских игр, чемпиона мира, чемпиона Европы по видам спорта, включенным в программы Олимпийских игр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0 баллов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Наличие аттестата о среднем общем образовании с отличием, для награжденных золотой  и серебряной медалью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0 баллов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Наличие диплома о среднем профессиональном образовании с отличием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– 10 баллов</a:t>
                      </a: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Наличие аттестата о среднем общем образовании (диплома о среднем профессиональном образовании) с не менее 50% итоговыми отметками «отлично» (остальные - «хорошо»)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   7 баллов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Результаты участия кандидатов на обучение в олимпиадах , в творческих конкурсах и спортивных мероприятиях, проводимых образовательными организациями Министерства образования и науки,   победитель </a:t>
                      </a: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7 баллов, призер  - 5 баллов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Результаты участия кандидатов в олимпиадах школьников по профильной дисциплине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и четырех лет  при наличии у них результатов ЕГЭ не ниже 60 баллов по профильной дисциплине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, победитель – 7 баллов, призер  - 5 баллов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Наличие аттестата выпускника довузовской образовательной организации со специальными наименованиями, перечисленными в статье 86 Федерального закона от 29 декабря 2012 г. № 273-ФЗ «Об образовании в Российской Федерации» (диплома выпускника профессиональных образовательных организаций), находящихся в введении  Министерства обороны Российской Федерации –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5 балл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</a:tbl>
          </a:graphicData>
        </a:graphic>
      </p:graphicFrame>
      <p:sp>
        <p:nvSpPr>
          <p:cNvPr id="111" name="Прямоугольник 4"/>
          <p:cNvSpPr/>
          <p:nvPr/>
        </p:nvSpPr>
        <p:spPr>
          <a:xfrm>
            <a:off x="8675640" y="49320"/>
            <a:ext cx="468360" cy="407880"/>
          </a:xfrm>
          <a:prstGeom prst="rect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9061560" cy="62064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речень индивидуальных достижений кандидатов, учитываемых при приеме на 1-й курс для обучения курсант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4920" y="676440"/>
          <a:ext cx="9109080" cy="7599240"/>
        </p:xfrm>
        <a:graphic>
          <a:graphicData uri="http://schemas.openxmlformats.org/drawingml/2006/table">
            <a:tbl>
              <a:tblPr/>
              <a:tblGrid>
                <a:gridCol w="9109080"/>
              </a:tblGrid>
              <a:tr h="763020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Наличие спортивного разряда или спортивного звания по видам спорта, включенным в программы Олимпийских игр или военно-прикладным видам спорта 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астер спорта 10 баллов , КМС-7 баллов, 1 разряд-6 баллов,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остальным видам спорта: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С, КМС – 5 баллов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Наличие наград, подтвержденных соответствующим документом (удостоверением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государственная награда Российской  Федерации – 10 баллов,  ведомственный знак отличия Министерства обороны Российской Федерации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–7  баллов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Наличие удостоверения ветерана боевых действий –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6 баллов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Наличие личной книжки юнармейца , при условии, что кандидат является  участником движения не менее  1 года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– 5 баллов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 Наличие документа участника сообщества «Братство Авангард», при условии,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что кандидат является выпускником УМЦ ВПВ «Авангард»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– 5 баллов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Наличие золотого знака отличия Всероссийского физкультурно-спортивного комплекса «Готов к труду и обороне (ГТО) и удостоверения к нему установленного образца при условии сдачи кандидатом вступительного испытания по физической подготовленности на оценку «отлично»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 3 балла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 За участие в волонтерской деятельности –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от 1 до 4 баллов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ы за вышеперечисленные индивидуальные достижения суммируются, поступающему может быть начислен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более 10 баллов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Уважаемые кандидаты, прием заявлений в военных комиссариата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 месту жительства начат с  сентября 2022 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Вас ждут военные образовательные организации!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</a:tbl>
          </a:graphicData>
        </a:graphic>
      </p:graphicFrame>
      <p:sp>
        <p:nvSpPr>
          <p:cNvPr id="115" name="Прямоугольник 4"/>
          <p:cNvSpPr/>
          <p:nvPr/>
        </p:nvSpPr>
        <p:spPr>
          <a:xfrm>
            <a:off x="8675640" y="49320"/>
            <a:ext cx="468360" cy="407880"/>
          </a:xfrm>
          <a:prstGeom prst="rect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8000" y="49320"/>
            <a:ext cx="9036000" cy="64296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сть такая профессия – Родину защищать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08000" y="691920"/>
            <a:ext cx="8928000" cy="604980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фессия офицер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о героическая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онравственная    профессия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фессия офицера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красивая профессия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е красят   военная  форма и боевые награды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фессия офицера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боевая профессия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фессия офицера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рофессия защитника Отечества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фессия офицера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рофессия защитника Отечества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фицеры-бойцы первой линии!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ними страна, в случае необходимости им принимат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ебя  первый удар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8496360" y="-243000"/>
            <a:ext cx="74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 Tat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1"/>
          <p:cNvSpPr/>
          <p:nvPr/>
        </p:nvSpPr>
        <p:spPr>
          <a:xfrm>
            <a:off x="8642520" y="88920"/>
            <a:ext cx="457200" cy="457200"/>
          </a:xfrm>
          <a:prstGeom prst="rect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9061560" cy="62064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речень индивидуальных достижений кандидатов, учитываемых при приеме на 1-й курс для обучения курсант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08000" y="676440"/>
          <a:ext cx="9036000" cy="7873920"/>
        </p:xfrm>
        <a:graphic>
          <a:graphicData uri="http://schemas.openxmlformats.org/drawingml/2006/table">
            <a:tbl>
              <a:tblPr/>
              <a:tblGrid>
                <a:gridCol w="9036000"/>
              </a:tblGrid>
              <a:tr h="790452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Наличие спортивного разряда или спортивного звания по видам спорта, включенным в программы Олимпийских игр или военно-прикладным видам спорта 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астер спорта 10 баллов , КМС-7 баллов, 1 разряд- 6 баллов, по остальным видам спорта МС, КМС – 5 балл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Наличие наград, подтвержденных соответствующим документом (удостоверением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государственная награда Российской  Федерации – 10 баллов,  ведомственный знак отличия Министерства обороны Российской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Федерации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–7 баллов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Наличие удостоверения ветерана боевых действий –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5 баллов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Наличие личной книжки юнармейца , при условии, что кандидат имеет стаж 1 год н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июля года поступления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– 5 баллов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Наличие золотого знака отличия Всероссийского физкультурно-спортивного комплекса «Готов к труду и обороне (ГТО) и удостоверения к нему установленного образца при условии сдачи кандидатом вступительного испытания по физической подготовленности на оценку «отлично»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 3 балл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 Наличие документа участника сообщества «Братство Авангарда», при условии, что кандидат является выпускником УМЦ ВПВ «Авангард»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5 баллов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 За участие в добровольческой (волонтерской деятельности) продолжительностью не менне 100 часов в год –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от 1 до 4 балл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ы за вышеперечисленные индивидуальные достижения суммируются, поступающему может быть начислен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более 10 баллов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Уважаемые кандидаты, прием заявлений в военных комиссариата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 месту жительства начат с  сентября 2022 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Вас ждут военные образовательные организации!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</a:tbl>
          </a:graphicData>
        </a:graphic>
      </p:graphicFrame>
      <p:sp>
        <p:nvSpPr>
          <p:cNvPr id="119" name="Прямоугольник 4"/>
          <p:cNvSpPr/>
          <p:nvPr/>
        </p:nvSpPr>
        <p:spPr>
          <a:xfrm>
            <a:off x="8675640" y="49320"/>
            <a:ext cx="468360" cy="407880"/>
          </a:xfrm>
          <a:prstGeom prst="rect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0" y="0"/>
          <a:ext cx="9109080" cy="7024680"/>
        </p:xfrm>
        <a:graphic>
          <a:graphicData uri="http://schemas.openxmlformats.org/drawingml/2006/table">
            <a:tbl>
              <a:tblPr/>
              <a:tblGrid>
                <a:gridCol w="9109080"/>
              </a:tblGrid>
              <a:tr h="55180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75420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75240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</a:tbl>
          </a:graphicData>
        </a:graphic>
      </p:graphicFrame>
      <p:pic>
        <p:nvPicPr>
          <p:cNvPr id="122" name="Picture 14" descr="C:\Users\User\Desktop\ВОО 17\вольск.jpg"/>
          <p:cNvPicPr/>
          <p:nvPr/>
        </p:nvPicPr>
        <p:blipFill>
          <a:blip r:embed="rId1"/>
          <a:stretch/>
        </p:blipFill>
        <p:spPr>
          <a:xfrm>
            <a:off x="0" y="3822840"/>
            <a:ext cx="4691160" cy="313524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4" descr=""/>
          <p:cNvPicPr/>
          <p:nvPr/>
        </p:nvPicPr>
        <p:blipFill>
          <a:blip r:embed="rId2"/>
          <a:stretch/>
        </p:blipFill>
        <p:spPr>
          <a:xfrm>
            <a:off x="6480" y="157320"/>
            <a:ext cx="4527360" cy="3687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7" descr="C:\Users\User\Desktop\фото с парада\parad68-086.jpg"/>
          <p:cNvPicPr/>
          <p:nvPr/>
        </p:nvPicPr>
        <p:blipFill>
          <a:blip r:embed="rId3"/>
          <a:stretch/>
        </p:blipFill>
        <p:spPr>
          <a:xfrm>
            <a:off x="4495680" y="157320"/>
            <a:ext cx="4610160" cy="3665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8" descr="C:\Users\User\Desktop\фото с парада\b032819e4946e693240ec062328013e8.jpeg"/>
          <p:cNvPicPr/>
          <p:nvPr/>
        </p:nvPicPr>
        <p:blipFill>
          <a:blip r:embed="rId4"/>
          <a:stretch/>
        </p:blipFill>
        <p:spPr>
          <a:xfrm>
            <a:off x="4495680" y="3822840"/>
            <a:ext cx="4610160" cy="320652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7"/>
          <p:cNvSpPr/>
          <p:nvPr/>
        </p:nvSpPr>
        <p:spPr>
          <a:xfrm>
            <a:off x="8675640" y="49320"/>
            <a:ext cx="468360" cy="407880"/>
          </a:xfrm>
          <a:prstGeom prst="rect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8000" y="49320"/>
            <a:ext cx="9036000" cy="64296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сть такая профессия – Родину защищать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8000" y="691920"/>
            <a:ext cx="8928000" cy="604980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8496360" y="-243000"/>
            <a:ext cx="74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 Tat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1"/>
          <p:cNvSpPr/>
          <p:nvPr/>
        </p:nvSpPr>
        <p:spPr>
          <a:xfrm>
            <a:off x="8642520" y="88920"/>
            <a:ext cx="457200" cy="457200"/>
          </a:xfrm>
          <a:prstGeom prst="rect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C:\Users\User\Desktop\На печать методичка\Вертолет.jpeg"/>
          <p:cNvPicPr/>
          <p:nvPr/>
        </p:nvPicPr>
        <p:blipFill>
          <a:blip r:embed="rId1"/>
          <a:stretch/>
        </p:blipFill>
        <p:spPr>
          <a:xfrm>
            <a:off x="4689360" y="3816360"/>
            <a:ext cx="4410360" cy="3025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C:\Users\User\Desktop\На печать методичка\Моряки.jpg"/>
          <p:cNvPicPr/>
          <p:nvPr/>
        </p:nvPicPr>
        <p:blipFill>
          <a:blip r:embed="rId2"/>
          <a:stretch/>
        </p:blipFill>
        <p:spPr>
          <a:xfrm>
            <a:off x="165240" y="3914640"/>
            <a:ext cx="4503600" cy="2913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C:\Users\User\Desktop\На печать методичка\DMBs5nQWsAEA_V0.jpg"/>
          <p:cNvPicPr/>
          <p:nvPr/>
        </p:nvPicPr>
        <p:blipFill>
          <a:blip r:embed="rId3"/>
          <a:stretch/>
        </p:blipFill>
        <p:spPr>
          <a:xfrm>
            <a:off x="165240" y="719280"/>
            <a:ext cx="4503600" cy="3186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C:\Users\User\Desktop\На печать методичка\парад (1).jpg"/>
          <p:cNvPicPr/>
          <p:nvPr/>
        </p:nvPicPr>
        <p:blipFill>
          <a:blip r:embed="rId4"/>
          <a:stretch/>
        </p:blipFill>
        <p:spPr>
          <a:xfrm>
            <a:off x="4689360" y="836640"/>
            <a:ext cx="442764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9036000" cy="86508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качестве кандидатов на поступление в военные образовательные организации для обучения курсантами рассматриваются граждане Российской Федерации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7640" y="1052640"/>
            <a:ext cx="8953560" cy="568944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имеющие среднее общее, среднее профессиональное образование (начальное профессиональное образование, если в нем есть запись о получении среднего общего образования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годные по состоянию здоровь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физически подготовленны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имеющие по профессиональной пригодности первую, вторую и третью категорию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раждане соответствующие возрасту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 16 до 22 лет, не проходившие военную службу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шедшие военную службу, и военнослужащие, проходящие военную службу по призыву, - до достижения ими возраста 24 лет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еннослужащие, проходящие военную службу по контракту (кроме офицеров), поступающие в вузы для обучения по программам с полной военно-специальной подготовкой , - до достижения ими возраста 27 лет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поступающие в вузы для обучения по программам со средней военно-специальной подготовкой  - до достижения ими возраста 30 лет </a:t>
            </a:r>
            <a:r>
              <a:rPr b="1" lang="ru-RU" sz="20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3"/>
          <p:cNvSpPr/>
          <p:nvPr/>
        </p:nvSpPr>
        <p:spPr>
          <a:xfrm>
            <a:off x="8642520" y="88920"/>
            <a:ext cx="457200" cy="457200"/>
          </a:xfrm>
          <a:prstGeom prst="rect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9036000" cy="83664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речень необходимых документов для оформления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личного дела кандидат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78920" y="836640"/>
            <a:ext cx="8882280" cy="590544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явление ( подают в военный комиссариат по месту жительства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серокопия свидетельства о рождени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серокопия документа, удостоверяющего личность и гражданство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втобиограф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правка о текущей успеваемост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правка о физической подготовленност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характеристика с места учебы или работы (службы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правка об отсутствии судимости;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серокопия документа государственного образца о соответствующем уровн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ри заверенные фотографии размером 4,5х6 с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арта профессионального психологического отбор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копия документов, подтверждающие достижения ( дипломы  и грамоты 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копия книжки Юнармейца, удостоверения значка ГТО и спорт. достижени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арта медицинского освидетельствования с результатами медицинских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ний и с детской амбулаторной картой и сертификатом прививо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8675640" y="49320"/>
            <a:ext cx="468360" cy="407880"/>
          </a:xfrm>
          <a:prstGeom prst="rect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-360" y="907920"/>
            <a:ext cx="9061560" cy="595008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оступления в подавляющее большинство военных образовательных организаций МО РФ требуются результаты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ГЭ по русскому языку, математике (профильный), физик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войсковые училища, Рязанское воздушно-десантное, экономический факультет Военного университета, институты МТО 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ГЭ по русскому языку, математике (профильный), обществознанию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ультет Военного университета «Перевод и переводоведение», специальность «Применение подразделений специальной разведки» Рязанского воздушно-десантного училища, специальность «перевод и переводоведение» Новосибирского военного института ФСВНГ РФ -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ГЭ по русскому языку, иностранному языку, истори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енно-медицинская академия  требует результаты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ГЭ по химии,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усскому языку, биологи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енный институт физической культуры требует результаты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ГЭ  по русскому  языку и биологи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андидат должен иметь спортивные звания или спортивные разряды не ниже первого по одному из видов спор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-360" y="26640"/>
            <a:ext cx="9061560" cy="88092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ступление в военные образовательные организации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уществляется по результатам ЕГЭ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4"/>
          <p:cNvSpPr/>
          <p:nvPr/>
        </p:nvSpPr>
        <p:spPr>
          <a:xfrm>
            <a:off x="8675640" y="49320"/>
            <a:ext cx="468360" cy="407880"/>
          </a:xfrm>
          <a:prstGeom prst="rect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9036000" cy="83664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 ПРИБЫТИЮ В ВОЕННУЮ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РАЗОВАТЕЛЬНУЮ ОРГАНИЗАЦИ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8920" y="836640"/>
            <a:ext cx="8882280" cy="590544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аете в приемную комиссию оригиналы документо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ходите военно-врачебную комиссию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ходите профессионально-психологический отбор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ходите  испытания по физической подготовлен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ормативы для юношей:                                Нормативы для девушек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68360" y="2565360"/>
          <a:ext cx="4032360" cy="3967200"/>
        </p:xfrm>
        <a:graphic>
          <a:graphicData uri="http://schemas.openxmlformats.org/drawingml/2006/table">
            <a:tbl>
              <a:tblPr/>
              <a:tblGrid>
                <a:gridCol w="1782720"/>
                <a:gridCol w="554040"/>
                <a:gridCol w="565200"/>
                <a:gridCol w="565200"/>
                <a:gridCol w="565200"/>
              </a:tblGrid>
              <a:tr h="63972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ж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бал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жданская молодеж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в/сл, проходящие службу по призыв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4266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тягивание на перекладин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2134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г на 100 м (сек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4266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г на 3000 м (мин. сек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639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вание 100 м вольным стилем (мин. сек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639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вание 100 м способом брасс (мин. сек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4643280" y="2637000"/>
          <a:ext cx="4321440" cy="4014720"/>
        </p:xfrm>
        <a:graphic>
          <a:graphicData uri="http://schemas.openxmlformats.org/drawingml/2006/table">
            <a:tbl>
              <a:tblPr/>
              <a:tblGrid>
                <a:gridCol w="1892520"/>
                <a:gridCol w="608040"/>
                <a:gridCol w="606240"/>
                <a:gridCol w="608040"/>
                <a:gridCol w="606600"/>
              </a:tblGrid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ж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бал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8967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клоны туловища впере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кол. раз в минуту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298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г на 100 м (сек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598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г на 1000 м (мин. сек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8967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вание 100 м вольным стилем  (мин. сек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8971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вание 100 м способом брасс  (мин. сек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</a:tbl>
          </a:graphicData>
        </a:graphic>
      </p:graphicFrame>
      <p:sp>
        <p:nvSpPr>
          <p:cNvPr id="68" name="Прямоугольник 5"/>
          <p:cNvSpPr/>
          <p:nvPr/>
        </p:nvSpPr>
        <p:spPr>
          <a:xfrm>
            <a:off x="8675640" y="49320"/>
            <a:ext cx="468360" cy="407880"/>
          </a:xfrm>
          <a:prstGeom prst="rect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9036000" cy="83664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дача вступительных испытаний в связи</a:t>
            </a:r>
            <a:br>
              <a:rPr sz="2100"/>
            </a:br>
            <a:r>
              <a:rPr b="1" lang="ru-RU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со сложной эпидемиологической обстановкой  в 2020-2022г.г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78920" y="836640"/>
            <a:ext cx="8882280" cy="590544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20-2022г.г. из-за пандемии приём абитуриентов в военные образовательные организации Министерства обороны Российской Федерации (далее РФ)  проходили  по месту их проживания без переезда к месту учёб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 75 субъектах РФ работали около 80 выездных приемных комиссий, куда вошли представители 35 вузов, специалисты профессионального психологического отбора и физической подготовк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ая выездная группа отбирала кандидатов для поступления во все высшие военные учебные заведения Министерства обороны РФ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ренбургской области работала выездная группа филиала Военной академии войсковой противовоздушной обороны ВС РФ г. Смоленс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дная комиссия принимала экзамены по физической подготовке и проводила профессионально-психологической отбор в период с 1 по 15 июля 2022 г., таким образом у кандидатов оставалась возможность сдавать документы в другие гр. вуз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ямоугольник 5"/>
          <p:cNvSpPr/>
          <p:nvPr/>
        </p:nvSpPr>
        <p:spPr>
          <a:xfrm>
            <a:off x="8675640" y="49320"/>
            <a:ext cx="468360" cy="407880"/>
          </a:xfrm>
          <a:prstGeom prst="rect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8000" y="120600"/>
            <a:ext cx="9036000" cy="83664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оенное образование и карьера – один из реально работающих и очень эффективных социальных лифтов в нашем обществе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ое денежное довольствие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3"/>
          <p:cNvSpPr/>
          <p:nvPr/>
        </p:nvSpPr>
        <p:spPr>
          <a:xfrm>
            <a:off x="8594640" y="-171360"/>
            <a:ext cx="74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 Ta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22400" y="1125360"/>
          <a:ext cx="9003960" cy="2102040"/>
        </p:xfrm>
        <a:graphic>
          <a:graphicData uri="http://schemas.openxmlformats.org/drawingml/2006/table">
            <a:tbl>
              <a:tblPr/>
              <a:tblGrid>
                <a:gridCol w="4863960"/>
                <a:gridCol w="4140000"/>
              </a:tblGrid>
              <a:tr h="222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Категория военнослужащи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Размер денежного доволь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195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сант 1 кур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195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сант 2 курса (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 заключения контракт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1000 до 20600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195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сант 3-5 кур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2000 до 22000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195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порщ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32000 до 37000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195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йтенан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45000 до 70000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рший лейтенан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47000  до 75000 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йо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70000  до 100000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307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ковн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85000  до 120000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190440" y="3429000"/>
          <a:ext cx="8785440" cy="3062160"/>
        </p:xfrm>
        <a:graphic>
          <a:graphicData uri="http://schemas.openxmlformats.org/drawingml/2006/table">
            <a:tbl>
              <a:tblPr/>
              <a:tblGrid>
                <a:gridCol w="2016360"/>
                <a:gridCol w="1081080"/>
                <a:gridCol w="1353960"/>
                <a:gridCol w="1085760"/>
                <a:gridCol w="1176480"/>
                <a:gridCol w="1177920"/>
                <a:gridCol w="893880"/>
              </a:tblGrid>
              <a:tr h="19548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атегор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оеннослужащ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 gridSpan="6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Надбавки за квалификационный уровень физической подготовлен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ень (15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ен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0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ень (70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спорт. разряд 8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М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90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тер спор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0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195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сант 1 кур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сант 2 курса (после заключения контракт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195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порщ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195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йтена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195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й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195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ков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5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8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</a:tbl>
          </a:graphicData>
        </a:graphic>
      </p:graphicFrame>
      <p:sp>
        <p:nvSpPr>
          <p:cNvPr id="76" name="Прямоугольник 6"/>
          <p:cNvSpPr/>
          <p:nvPr/>
        </p:nvSpPr>
        <p:spPr>
          <a:xfrm>
            <a:off x="8675640" y="49320"/>
            <a:ext cx="468360" cy="407880"/>
          </a:xfrm>
          <a:prstGeom prst="rect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1T17:29:32Z</dcterms:created>
  <dc:creator>Пользователь</dc:creator>
  <dc:description/>
  <dc:language>en-US</dc:language>
  <cp:lastModifiedBy>Ферапонтова Л Е</cp:lastModifiedBy>
  <cp:lastPrinted>2018-10-26T09:55:59Z</cp:lastPrinted>
  <dcterms:modified xsi:type="dcterms:W3CDTF">2022-11-23T14:08:47Z</dcterms:modified>
  <cp:revision>332</cp:revision>
  <dc:subject/>
  <dc:title>Презентация PowerPoint</dc:title>
</cp:coreProperties>
</file>